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6AC-DC8D-4E09-B91C-218764E9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F66-04E3-4481-82F1-CC8F9CAC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73F-46F9-4746-A884-4083FEC0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15E-CAFD-4794-9154-918EA869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D98-C734-49AF-BBA2-F86E05AB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F49-B9F1-4F5D-9F05-4E378223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F26-057B-478D-B6F7-C49EBC5D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350-41ED-44F3-A364-F834EF3E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721-EE4C-4584-957E-4C9C7CD2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F18-4D6B-4105-A42A-878FDA7C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E27-7BE3-403D-A49A-08BE122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20D-1BDA-4D58-9159-97F0BA94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449C-8CDA-498C-A8F1-857EA65C2C6A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11044080" y="38160"/>
            <a:ext cx="110664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รูปห้าเหลี่ยม 33"/>
          <p:cNvSpPr/>
          <p:nvPr/>
        </p:nvSpPr>
        <p:spPr>
          <a:xfrm>
            <a:off x="6762600" y="5816520"/>
            <a:ext cx="702000" cy="308160"/>
          </a:xfrm>
          <a:custGeom>
            <a:avLst/>
            <a:gdLst>
              <a:gd name="textAreaLeft" fmla="*/ 0 w 702000"/>
              <a:gd name="textAreaRight" fmla="*/ 702360 w 7020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0" y="0"/>
                </a:lnTo>
                <a:lnTo>
                  <a:pt x="21600" y="10800"/>
                </a:lnTo>
                <a:lnTo>
                  <a:pt x="16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e0b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รูปห้าเหลี่ยม 6"/>
          <p:cNvSpPr/>
          <p:nvPr/>
        </p:nvSpPr>
        <p:spPr>
          <a:xfrm>
            <a:off x="817560" y="2228760"/>
            <a:ext cx="2928960" cy="338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53" y="0"/>
                </a:lnTo>
                <a:lnTo>
                  <a:pt x="21600" y="10800"/>
                </a:lnTo>
                <a:lnTo>
                  <a:pt x="203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72c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Isosceles Triangle 11"/>
          <p:cNvSpPr/>
          <p:nvPr/>
        </p:nvSpPr>
        <p:spPr>
          <a:xfrm>
            <a:off x="520560" y="46080"/>
            <a:ext cx="11671560" cy="689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ผนงาน </a:t>
            </a:r>
            <a:r>
              <a:rPr b="1" lang="en-US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Service Plan 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าขาอุบัติเหตุและฉุกเฉ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mergency Care Sys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สี่เหลี่ยมมุมมน 6"/>
          <p:cNvSpPr/>
          <p:nvPr/>
        </p:nvSpPr>
        <p:spPr>
          <a:xfrm>
            <a:off x="817560" y="762120"/>
            <a:ext cx="11194920" cy="663480"/>
          </a:xfrm>
          <a:prstGeom prst="rect">
            <a:avLst/>
          </a:prstGeom>
          <a:solidFill>
            <a:srgbClr val="92d050"/>
          </a:solidFill>
          <a:ln w="936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ป้าหมาย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r>
              <a:rPr b="1" lang="th-TH" sz="14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ลดความแออัด ผู้ป่วยในห้องฉุกเฉิน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จัดมาตรฐาน ห้องฉุกเฉิน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, 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ระบบบริการและพัฒนาบุคลาก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ัตราการเสียชีวิตผู้ป่วยวิกฤตฉุกเฉิน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ีแดง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ภายใน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4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ชั่วโมง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A,S,M1)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ม่เกินร้อยละ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   2.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 ะยะเวลาผู้ป่วย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TriageLevel 1,2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ยู่ใน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R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ม่เกิน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ช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0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ในรพ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A S M1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ป่วยบาดเจ็บวิกฤต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ีแดง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ด้รับการผ่าตัดฉุกเฉิน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R Pass to OR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ภายใน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0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นาที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&gt;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0  (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ัตราการเสียชีวิตจากการบาดเจ็บที่ป้องกันได้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PS&gt;0.75 &lt;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ละได้รับการทบทวน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00%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(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ัตราการเสียชีวิตของผู้ป่วย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TBI  &lt;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7) 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ัตราการเสียชีวิตจากอุบัติเหตุทางถนน </a:t>
            </a:r>
            <a:r>
              <a:rPr b="1" lang="en-US" sz="13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&lt; 18 </a:t>
            </a: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ต่อแสนประชากร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 rot="339600">
            <a:off x="9473760" y="135000"/>
            <a:ext cx="1862280" cy="412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P&amp;P + Service Excel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65160" y="1446120"/>
            <a:ext cx="671400" cy="601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ถานการณ์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้อมูลพื้นฐ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1"/>
          <p:cNvSpPr/>
          <p:nvPr/>
        </p:nvSpPr>
        <p:spPr>
          <a:xfrm>
            <a:off x="27000" y="2828880"/>
            <a:ext cx="723960" cy="18493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ิจกรรมหลั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20520" y="4734000"/>
            <a:ext cx="750960" cy="2077920"/>
          </a:xfrm>
          <a:prstGeom prst="rect">
            <a:avLst/>
          </a:prstGeom>
          <a:solidFill>
            <a:srgbClr val="bdd7ee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ะดับความสำเร็จ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41400" y="2090880"/>
            <a:ext cx="722160" cy="684000"/>
          </a:xfrm>
          <a:prstGeom prst="rect">
            <a:avLst/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ยุทธศาสตร์</a:t>
            </a:r>
            <a:br>
              <a:rPr sz="1300"/>
            </a:br>
            <a:r>
              <a:rPr b="1" lang="th-TH" sz="13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าต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0" y="15840"/>
            <a:ext cx="423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1f4e79"/>
                </a:solidFill>
                <a:latin typeface="TH SarabunPSK"/>
                <a:cs typeface="TH SarabunPSK"/>
              </a:rPr>
              <a:t>หน่วยงานหลัก</a:t>
            </a:r>
            <a:r>
              <a:rPr b="1" lang="en-US" sz="1400" spc="-1" strike="noStrike">
                <a:solidFill>
                  <a:srgbClr val="1f4e79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1f4e79"/>
                </a:solidFill>
                <a:latin typeface="TH SarabunPSK"/>
                <a:cs typeface="TH SarabunPSK"/>
              </a:rPr>
              <a:t>สำนักงานสาธารณสุขจังหวัดอุดรธานี </a:t>
            </a:r>
            <a:r>
              <a:rPr b="1" lang="th-TH" sz="1400" spc="-1" strike="noStrike">
                <a:solidFill>
                  <a:srgbClr val="1f4e79"/>
                </a:solidFill>
                <a:latin typeface="TH SarabunPSK"/>
                <a:ea typeface="TH SarabunPSK"/>
              </a:rPr>
              <a:t>/ </a:t>
            </a:r>
            <a:r>
              <a:rPr b="1" lang="th-TH" sz="1400" spc="-1" strike="noStrike">
                <a:solidFill>
                  <a:srgbClr val="1f4e79"/>
                </a:solidFill>
                <a:latin typeface="TH SarabunPSK"/>
                <a:cs typeface="TH SarabunPSK"/>
              </a:rPr>
              <a:t>รพศ</a:t>
            </a:r>
            <a:r>
              <a:rPr b="1" lang="th-TH" sz="1400" spc="-1" strike="noStrike">
                <a:solidFill>
                  <a:srgbClr val="1f4e79"/>
                </a:solidFill>
                <a:latin typeface="TH SarabunPSK"/>
                <a:ea typeface="TH SarabunPSK"/>
              </a:rPr>
              <a:t>./</a:t>
            </a:r>
            <a:r>
              <a:rPr b="1" lang="th-TH" sz="1400" spc="-1" strike="noStrike">
                <a:solidFill>
                  <a:srgbClr val="1f4e79"/>
                </a:solidFill>
                <a:latin typeface="TH SarabunPSK"/>
                <a:cs typeface="TH SarabunPSK"/>
              </a:rPr>
              <a:t>รพท</a:t>
            </a:r>
            <a:r>
              <a:rPr b="1" lang="th-TH" sz="1400" spc="-1" strike="noStrike">
                <a:solidFill>
                  <a:srgbClr val="1f4e79"/>
                </a:solidFill>
                <a:latin typeface="TH SarabunPSK"/>
                <a:ea typeface="TH SarabunPSK"/>
              </a:rPr>
              <a:t>./</a:t>
            </a:r>
            <a:r>
              <a:rPr b="1" lang="th-TH" sz="1400" spc="-1" strike="noStrike">
                <a:solidFill>
                  <a:srgbClr val="1f4e79"/>
                </a:solidFill>
                <a:latin typeface="TH SarabunPSK"/>
                <a:cs typeface="TH SarabunPSK"/>
              </a:rPr>
              <a:t>รพ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1f4e79"/>
                </a:solidFill>
                <a:latin typeface="TH SarabunPSK"/>
                <a:cs typeface="TH SarabunPSK"/>
              </a:rPr>
              <a:t>หน่วยงานร่วม</a:t>
            </a:r>
            <a:r>
              <a:rPr b="1" lang="en-US" sz="1400" spc="-1" strike="noStrike">
                <a:solidFill>
                  <a:srgbClr val="1f4e79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1f4e79"/>
                </a:solidFill>
                <a:latin typeface="TH SarabunPSK"/>
                <a:cs typeface="TH SarabunPSK"/>
              </a:rPr>
              <a:t>สำนักงานสาธารณสุขจังหวัดทุกแห่งในเขตสุขภาพที่ </a:t>
            </a:r>
            <a:r>
              <a:rPr b="1" lang="en-US" sz="1400" spc="-1" strike="noStrike">
                <a:solidFill>
                  <a:srgbClr val="1f4e79"/>
                </a:solidFill>
                <a:latin typeface="TH SarabunPSK"/>
                <a:ea typeface="TH SarabunPSK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2560" y="774720"/>
            <a:ext cx="726840" cy="1310760"/>
          </a:xfrm>
          <a:prstGeom prst="rect">
            <a:avLst/>
          </a:prstGeom>
          <a:solidFill>
            <a:srgbClr val="bdd7ee"/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ป้าหมาย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92000" y="1446120"/>
            <a:ext cx="11307960" cy="733320"/>
          </a:xfrm>
          <a:prstGeom prst="rect">
            <a:avLst/>
          </a:prstGeom>
          <a:solidFill>
            <a:srgbClr val="bdd7e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้อมูลการดำเนินงาน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CS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ขตสุขภาพที่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6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ัตราการเสียชีวิตผู้ป่วยวิกฤตฉุกเฉิน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ีแดง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ภายใน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4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ชั่วโมง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A,S,M1)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.1  2.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 ะยะเวลาผู้ป่วย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TriageLevel 1,2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ยู่ใน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R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ม่เกิน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ช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6.99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ในรพ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A S M1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ป่วยบาดเจ็บวิกฤต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ีแดง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ด้รับการผ่าตัดฉุกเฉิน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R Pass to OR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ภายใน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0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นาที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&gt;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5.63 4)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ัตราการเสียชีวิตจากการบาดเจ็บที่ป้องกันได้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PS&gt;0.75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0.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6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ัตราการเสียชีวิตของผู้ป่วย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TBI  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1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17560" y="2184480"/>
          <a:ext cx="11282400" cy="430200"/>
        </p:xfrm>
        <a:graphic>
          <a:graphicData uri="http://schemas.openxmlformats.org/drawingml/2006/table">
            <a:tbl>
              <a:tblPr/>
              <a:tblGrid>
                <a:gridCol w="2820960"/>
                <a:gridCol w="2819520"/>
                <a:gridCol w="2820960"/>
                <a:gridCol w="2820960"/>
              </a:tblGrid>
              <a:tr h="43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รูปห้าเหลี่ยม 7"/>
          <p:cNvSpPr/>
          <p:nvPr/>
        </p:nvSpPr>
        <p:spPr>
          <a:xfrm>
            <a:off x="817560" y="2197080"/>
            <a:ext cx="2828880" cy="33804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9" y="0"/>
                </a:lnTo>
                <a:lnTo>
                  <a:pt x="21600" y="10800"/>
                </a:lnTo>
                <a:lnTo>
                  <a:pt x="203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72c4"/>
          </a:solidFill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66960" y="2165400"/>
            <a:ext cx="25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CS / ER 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ุณภา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รูปห้าเหลี่ยม 8"/>
          <p:cNvSpPr/>
          <p:nvPr/>
        </p:nvSpPr>
        <p:spPr>
          <a:xfrm>
            <a:off x="3746520" y="2197080"/>
            <a:ext cx="2668680" cy="33804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32" y="0"/>
                </a:lnTo>
                <a:lnTo>
                  <a:pt x="21600" y="10800"/>
                </a:lnTo>
                <a:lnTo>
                  <a:pt x="20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966"/>
          </a:solidFill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รูปห้าเหลี่ยม 9"/>
          <p:cNvSpPr/>
          <p:nvPr/>
        </p:nvSpPr>
        <p:spPr>
          <a:xfrm>
            <a:off x="6445080" y="2228760"/>
            <a:ext cx="2549520" cy="338400"/>
          </a:xfrm>
          <a:custGeom>
            <a:avLst/>
            <a:gdLst>
              <a:gd name="textAreaLeft" fmla="*/ 0 w 2549520"/>
              <a:gd name="textAreaRight" fmla="*/ 2549880 w 254952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68" y="0"/>
                </a:lnTo>
                <a:lnTo>
                  <a:pt x="21600" y="10800"/>
                </a:lnTo>
                <a:lnTo>
                  <a:pt x="201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72c4"/>
          </a:solidFill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รูปห้าเหลี่ยม 10"/>
          <p:cNvSpPr/>
          <p:nvPr/>
        </p:nvSpPr>
        <p:spPr>
          <a:xfrm>
            <a:off x="8994600" y="2197080"/>
            <a:ext cx="3105360" cy="338040"/>
          </a:xfrm>
          <a:custGeom>
            <a:avLst/>
            <a:gdLst>
              <a:gd name="textAreaLeft" fmla="*/ 0 w 3105360"/>
              <a:gd name="textAreaRight" fmla="*/ 3105720 w 310536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24" y="0"/>
                </a:lnTo>
                <a:lnTo>
                  <a:pt x="21600" y="10800"/>
                </a:lnTo>
                <a:lnTo>
                  <a:pt x="204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966"/>
          </a:solidFill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9"/>
          <p:cNvSpPr/>
          <p:nvPr/>
        </p:nvSpPr>
        <p:spPr>
          <a:xfrm>
            <a:off x="9286920" y="2197080"/>
            <a:ext cx="25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ป้องกั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7"/>
          <p:cNvSpPr/>
          <p:nvPr/>
        </p:nvSpPr>
        <p:spPr>
          <a:xfrm>
            <a:off x="6415200" y="2165400"/>
            <a:ext cx="25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ะบบข้อมู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3746520" y="2197080"/>
            <a:ext cx="25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พัฒนาบุคลาก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17560" y="2567160"/>
          <a:ext cx="11282400" cy="2073240"/>
        </p:xfrm>
        <a:graphic>
          <a:graphicData uri="http://schemas.openxmlformats.org/drawingml/2006/table">
            <a:tbl>
              <a:tblPr/>
              <a:tblGrid>
                <a:gridCol w="2914560"/>
                <a:gridCol w="2727360"/>
                <a:gridCol w="2546280"/>
                <a:gridCol w="3094200"/>
              </a:tblGrid>
              <a:tr h="325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1.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พัฒนาคุณภาพ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ER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ุณภาพ เครือข่ายรพ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.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ทุกระดับ ได้แก่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EMS ,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ระบบส่งต่อ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,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การจัดระบบบริการ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fast track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การจัดทำแผนบริหารจัดการสาธารณภัยและซ้อมแผนเพื่อเตรียมความพร้อมอย่างน้อย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1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รั้ง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/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2.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Self Assessment ER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ุณภาพ 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2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รั้ง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/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3.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ลดภาวะห้องฉุกเฉินแออัด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ER Over Crowding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 (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บริบท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4.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ดำเนินการตาม แนวปฏิบัติ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ER  2 P safe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5.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ดำเนินการทบทวน และจัดการแก้ไขปัญหาเชิงระบบ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(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MM conference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ตามรอย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, RM)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ในรูปแบบ ผ่าน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TEA Unit /Committe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1.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จัดหาแพทย์ เวชศาสตร์ฉุกเฉิน รพ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.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A , S , M1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ีละ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1-2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น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2.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พัฒนาสมรรถนะบุคลากรพยาบาล หลักสูตร แพทย์หลักสูตรพยาบาลเวชปฏิบัติฉุกเฉิน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: ENP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             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รพ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.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A,S,M1,M2 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รพ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.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ละ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1-2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3.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่งเสริมให้เจ้าหน้าที่อบรมหลักสูตรการบริหารจัดการสาธารณภัย หลักสูตร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MERT , Mini ME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Refresh EMR/EMT-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4. Refresh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หลักสูตร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ACLS , ATLS for Doctor /Nurse  &gt;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ร้อยละ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80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ของจำนวนบุคลากร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1.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พัฒนาข้อมูลและระบบสารสนเทศผ่านระบบ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IT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ุณภาพ ให้ครอบคลุม ครบถ้วน ถูกต้อง รวดเร็ว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2.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จัดตั้งศูนย์ข้อมูลให้ได้มาตรฐานผ่านระบบ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TEA Uni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-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มีโครงสร้างการบริหาร  มีผู้รับผิดชอบงานชัดเจ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-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จัดทำฐานข้อมูล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data set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 (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IS online , PHER , ITEM , 43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แฟ้ม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) -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มีการรายงานและวิเคราะห์ข้อมูลในการใช้ประโยชน์ข้อมูล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3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พัฒนา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AOC Ambulance Operating Cent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4 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พัฒนา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Patient track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1.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การให้ความรู้เรื่องการเรียกใช้บริการเมื่อเกิดภาวะฉุกเฉิ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2.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การให้ความรู้เรื่องการประเมินการเจ็บป่วยฉุกเฉิน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/</a:t>
                      </a: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ไม่ฉุกเฉิ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79400" y="4678200"/>
          <a:ext cx="11320560" cy="2073600"/>
        </p:xfrm>
        <a:graphic>
          <a:graphicData uri="http://schemas.openxmlformats.org/drawingml/2006/table">
            <a:tbl>
              <a:tblPr/>
              <a:tblGrid>
                <a:gridCol w="2994120"/>
                <a:gridCol w="2763720"/>
                <a:gridCol w="2517840"/>
                <a:gridCol w="3044880"/>
              </a:tblGrid>
              <a:tr h="2073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</a:tr>
            </a:tbl>
          </a:graphicData>
        </a:graphic>
      </p:graphicFrame>
      <p:sp>
        <p:nvSpPr>
          <p:cNvPr id="65" name="รูปห้าเหลี่ยม 36"/>
          <p:cNvSpPr/>
          <p:nvPr/>
        </p:nvSpPr>
        <p:spPr>
          <a:xfrm>
            <a:off x="8945640" y="4678200"/>
            <a:ext cx="750960" cy="255600"/>
          </a:xfrm>
          <a:custGeom>
            <a:avLst/>
            <a:gdLst>
              <a:gd name="textAreaLeft" fmla="*/ 0 w 750960"/>
              <a:gd name="textAreaRight" fmla="*/ 751320 w 7509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ff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8970840" y="4626000"/>
            <a:ext cx="70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ตรมาส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รูปห้าเหลี่ยม 39"/>
          <p:cNvSpPr/>
          <p:nvPr/>
        </p:nvSpPr>
        <p:spPr>
          <a:xfrm>
            <a:off x="817560" y="4667400"/>
            <a:ext cx="809640" cy="255600"/>
          </a:xfrm>
          <a:custGeom>
            <a:avLst/>
            <a:gdLst>
              <a:gd name="textAreaLeft" fmla="*/ 0 w 809640"/>
              <a:gd name="textAreaRight" fmla="*/ 810000 w 809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7"/>
          <p:cNvSpPr/>
          <p:nvPr/>
        </p:nvSpPr>
        <p:spPr>
          <a:xfrm>
            <a:off x="817560" y="4616280"/>
            <a:ext cx="70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ตรมาส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รูปห้าเหลี่ยม 41"/>
          <p:cNvSpPr/>
          <p:nvPr/>
        </p:nvSpPr>
        <p:spPr>
          <a:xfrm>
            <a:off x="3746520" y="4678200"/>
            <a:ext cx="772920" cy="255600"/>
          </a:xfrm>
          <a:custGeom>
            <a:avLst/>
            <a:gdLst>
              <a:gd name="textAreaLeft" fmla="*/ 0 w 772920"/>
              <a:gd name="textAreaRight" fmla="*/ 773280 w 77292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30" y="0"/>
                </a:lnTo>
                <a:lnTo>
                  <a:pt x="21600" y="10800"/>
                </a:lnTo>
                <a:lnTo>
                  <a:pt x="180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0"/>
          <p:cNvSpPr/>
          <p:nvPr/>
        </p:nvSpPr>
        <p:spPr>
          <a:xfrm>
            <a:off x="3781440" y="4626000"/>
            <a:ext cx="70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ตรมาส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รูปห้าเหลี่ยม 43"/>
          <p:cNvSpPr/>
          <p:nvPr/>
        </p:nvSpPr>
        <p:spPr>
          <a:xfrm>
            <a:off x="6539040" y="4678200"/>
            <a:ext cx="723600" cy="244800"/>
          </a:xfrm>
          <a:custGeom>
            <a:avLst/>
            <a:gdLst>
              <a:gd name="textAreaLeft" fmla="*/ 0 w 723600"/>
              <a:gd name="textAreaRight" fmla="*/ 723960 w 723600"/>
              <a:gd name="textAreaTop" fmla="*/ 0 h 244800"/>
              <a:gd name="textAreaBottom" fmla="*/ 245160 h 2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53" y="0"/>
                </a:lnTo>
                <a:lnTo>
                  <a:pt x="21600" y="10800"/>
                </a:lnTo>
                <a:lnTo>
                  <a:pt x="17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2"/>
          <p:cNvSpPr/>
          <p:nvPr/>
        </p:nvSpPr>
        <p:spPr>
          <a:xfrm>
            <a:off x="6559560" y="4640400"/>
            <a:ext cx="70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ตรมาส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2T13:07:21Z</dcterms:created>
  <dc:creator>ภาวิณี คำฆะ</dc:creator>
  <dc:description/>
  <dc:language>en-US</dc:language>
  <cp:lastModifiedBy>asus</cp:lastModifiedBy>
  <dcterms:modified xsi:type="dcterms:W3CDTF">2019-09-05T06:20:22Z</dcterms:modified>
  <cp:revision>103</cp:revision>
  <dc:subject/>
  <dc:title>PowerPoint Presentation</dc:title>
</cp:coreProperties>
</file>